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Le tour" id="0">
      <p:sldLst>
        <p:sld r:id="rId3"/>
        <p:sld r:id="rId11"/>
        <p:sld r:id="rId14"/>
      </p:sldLst>
    </p:custShow>
    <p:custShow name="Copie de Le tour" id="1">
      <p:sldLst>
        <p:sld r:id="rId3"/>
        <p:sld r:id="rId11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3C3-BE35-49FC-9DC4-C37EA617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D99-4B37-48C6-8009-A4B14418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4E7-6550-4F6A-9EE5-037DDFC9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6D2-DA01-48A6-A06A-20EA3998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24E-B522-4AEF-903B-E075BEF7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F78-F8BF-4B4F-91C4-E020BC24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A1F-7A64-48FF-9483-D493B711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448-7F1C-4B40-A841-063EF77E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0C9-BEE3-4ABD-BFFA-C3B5BE83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ACA-058C-4CDA-BE69-5AB56075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37C-3C35-4555-A766-7ACC5255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9D0-3E33-4246-9E9C-575E92CF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FCB0-D537-4459-88DC-378C987B9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ffffff"/>
                </a:solidFill>
                <a:latin typeface="Times New Roman"/>
              </a:rPr>
              <a:t>Tra poco, Lei entrera’ in un mondo magico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1000" y="2438280"/>
            <a:ext cx="42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66ccff"/>
                </a:solidFill>
                <a:latin typeface="Times New Roman"/>
              </a:rPr>
              <a:t>Adesso, mi guardi fisso negli occhi e si concentri sulla sua carta</a:t>
            </a:r>
            <a:r>
              <a:rPr b="0" i="1" lang="pl-PL" sz="2400" spc="-1" strike="noStrike">
                <a:solidFill>
                  <a:srgbClr val="66cc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1000" y="2438280"/>
            <a:ext cx="429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b2b2b2"/>
                </a:solidFill>
                <a:latin typeface="Times New Roman"/>
              </a:rPr>
              <a:t>Io non la conos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b2b2b2"/>
                </a:solidFill>
                <a:latin typeface="Times New Roman"/>
              </a:rPr>
              <a:t>Non ho potuto vedere quello che ha scel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b2b2b2"/>
                </a:solidFill>
                <a:latin typeface="Times New Roman"/>
              </a:rPr>
              <a:t>...ma so esattamente la carta che e’ nella sua men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1000" y="2438280"/>
            <a:ext cx="429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Guardi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La sua carta non c’e’ piu’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26960" y="27874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Sorpr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1000" y="24382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Ci vediamo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79440" y="25462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2360" y="1600200"/>
            <a:ext cx="397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Le restano 7 giorni di vita dopo aver visto questo messaggio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259092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cc0000"/>
                </a:solidFill>
                <a:latin typeface="Times New Roman"/>
              </a:rPr>
              <a:t>....oppure lo spedisca a quelli che non credono in me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Tra pochissimo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Lei sara’ testimone di qualcosa di molto special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Sara’ testimone...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Di una sorprendente illusion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il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usi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David Copperfie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Nonostante questo sia un programma normalissimo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Lei vedra’ ch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Io posso, attraverso lo schermo, leggere i suoi pensieri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1314360"/>
            <a:ext cx="4724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200" spc="-1" strike="noStrike">
                <a:solidFill>
                  <a:srgbClr val="ffffff"/>
                </a:solidFill>
                <a:latin typeface="Times New Roman"/>
              </a:rPr>
              <a:t>Di fronte a lei ci sono 6 carte diverse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200" spc="-1" strike="noStrike">
                <a:solidFill>
                  <a:srgbClr val="ffffff"/>
                </a:solidFill>
                <a:latin typeface="Times New Roman"/>
              </a:rPr>
              <a:t>Pensi ad una di queste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La pensi solamente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Non la tocchi ne’ faccia click su di essa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ffff"/>
                </a:solidFill>
                <a:latin typeface="Times New Roman"/>
              </a:rPr>
              <a:t>Posso trovare quella carta nella sua m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La pensi un attimo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DC</dc:creator>
  <dc:description/>
  <dc:language>en-US</dc:language>
  <cp:lastModifiedBy>Brusel</cp:lastModifiedBy>
  <dcterms:modified xsi:type="dcterms:W3CDTF">2003-10-01T09:22:14Z</dcterms:modified>
  <cp:revision>47</cp:revision>
  <dc:subject/>
  <dc:title>DC</dc:title>
</cp:coreProperties>
</file>