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Le tour" id="0">
      <p:sldLst>
        <p:sld r:id="rId3"/>
        <p:sld r:id="rId11"/>
        <p:sld r:id="rId14"/>
      </p:sldLst>
    </p:custShow>
    <p:custShow name="Copie de Le tour" id="1">
      <p:sldLst>
        <p:sld r:id="rId3"/>
        <p:sld r:id="rId11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36D2-A3E3-44C9-B306-05C4AC6A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134-5241-412E-828C-4626992E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D2D-B4D4-4556-9423-900AB746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06CD-1821-4B2F-B5F0-5B026C1F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38C-56DA-4EC3-AD70-C17218B9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AD5-6CB9-431D-86E6-078B34EC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F5E2-5241-47C4-B6FB-89628EAB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9B0-3EBD-484A-BD72-2791B224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8054-F4CC-4504-AEAD-BD0C38FD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7CE-57C8-4D00-B98E-C5F94B0D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6BB-E1CF-4601-ABC7-8722477E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A5E-306B-4D7B-975B-4617E85B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1CB7-5896-46B1-951E-248393F83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3600" spc="-1" strike="noStrike">
                <a:solidFill>
                  <a:srgbClr val="ffffff"/>
                </a:solidFill>
                <a:latin typeface="Times New Roman"/>
              </a:rPr>
              <a:t>Tra poco, Lei entrera’ in un mondo magico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1000" y="2438280"/>
            <a:ext cx="42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66ccff"/>
                </a:solidFill>
                <a:latin typeface="Times New Roman"/>
              </a:rPr>
              <a:t>Adesso, mi guardi fisso negli occhi e si concentri sulla sua carta</a:t>
            </a:r>
            <a:r>
              <a:rPr b="0" i="1" lang="pl-PL" sz="2400" spc="-1" strike="noStrike">
                <a:solidFill>
                  <a:srgbClr val="66cc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1000" y="2438280"/>
            <a:ext cx="429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b2b2b2"/>
                </a:solidFill>
                <a:latin typeface="Times New Roman"/>
              </a:rPr>
              <a:t>Io non la conos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b2b2b2"/>
                </a:solidFill>
                <a:latin typeface="Times New Roman"/>
              </a:rPr>
              <a:t>Non ho potuto vedere quello che ha scel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b2b2b2"/>
                </a:solidFill>
                <a:latin typeface="Times New Roman"/>
              </a:rPr>
              <a:t>...ma so esattamente la carta che e’ nella sua ment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352680" y="5408640"/>
            <a:ext cx="3505320" cy="91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1000" y="2438280"/>
            <a:ext cx="429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Guardi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La sua carta non c’e’ piu’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26960" y="2787480"/>
            <a:ext cx="42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Sorpres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1000" y="2438280"/>
            <a:ext cx="42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Ci vediamo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79440" y="25462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2360" y="1600200"/>
            <a:ext cx="397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cc0000"/>
                </a:solidFill>
                <a:latin typeface="Times New Roman"/>
              </a:rPr>
              <a:t>Le restano 7 giorni di vita dopo aver visto questo messaggio..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2590920"/>
            <a:ext cx="29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cc0000"/>
                </a:solidFill>
                <a:latin typeface="Times New Roman"/>
              </a:rPr>
              <a:t>....oppure lo spedisca a quelli che non credono in me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Tra pochissimo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Lei sara’ testimone di qualcosa di molto special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Sara’ testimone...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Di una sorprendente illusion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il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usi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David Copperfie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Nonostante questo sia un programma normalissimo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Lei vedra’ ch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Io posso, attraverso lo schermo, leggere i suoi pensieri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4600" y="5194440"/>
            <a:ext cx="449568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1314360"/>
            <a:ext cx="4724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200" spc="-1" strike="noStrike">
                <a:solidFill>
                  <a:srgbClr val="ffffff"/>
                </a:solidFill>
                <a:latin typeface="Times New Roman"/>
              </a:rPr>
              <a:t>Di fronte a lei ci sono 6 carte diverse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200" spc="-1" strike="noStrike">
                <a:solidFill>
                  <a:srgbClr val="ffffff"/>
                </a:solidFill>
                <a:latin typeface="Times New Roman"/>
              </a:rPr>
              <a:t>Pensi ad una di queste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La pensi solamente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Non la tocchi ne’ faccia click su di essa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ffffff"/>
                </a:solidFill>
                <a:latin typeface="Times New Roman"/>
              </a:rPr>
              <a:t>Posso trovare quella carta nella sua m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La pensi un attimo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34280" y="5262480"/>
            <a:ext cx="455760" cy="243000"/>
          </a:xfrm>
          <a:custGeom>
            <a:avLst/>
            <a:gdLst/>
            <a:ahLst/>
            <a:rect l="l" t="t" r="r" b="b"/>
            <a:pathLst>
              <a:path w="861" h="459">
                <a:moveTo>
                  <a:pt x="39" y="30"/>
                </a:moveTo>
                <a:lnTo>
                  <a:pt x="26" y="236"/>
                </a:lnTo>
                <a:lnTo>
                  <a:pt x="14" y="446"/>
                </a:lnTo>
                <a:lnTo>
                  <a:pt x="845" y="427"/>
                </a:lnTo>
                <a:lnTo>
                  <a:pt x="813" y="268"/>
                </a:lnTo>
                <a:lnTo>
                  <a:pt x="861" y="436"/>
                </a:lnTo>
                <a:lnTo>
                  <a:pt x="0" y="459"/>
                </a:lnTo>
                <a:lnTo>
                  <a:pt x="26" y="0"/>
                </a:lnTo>
                <a:lnTo>
                  <a:pt x="39" y="30"/>
                </a:lnTo>
                <a:lnTo>
                  <a:pt x="3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4:36:11Z</dcterms:created>
  <dc:creator>DC</dc:creator>
  <dc:description/>
  <dc:language>en-US</dc:language>
  <cp:lastModifiedBy>Brusel</cp:lastModifiedBy>
  <dcterms:modified xsi:type="dcterms:W3CDTF">2003-10-01T09:22:14Z</dcterms:modified>
  <cp:revision>47</cp:revision>
  <dc:subject/>
  <dc:title>DC</dc:title>
</cp:coreProperties>
</file>