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  <p:custShowLst>
    <p:custShow name="Le tour" id="0">
      <p:sldLst>
        <p:sld r:id="rId3"/>
        <p:sld r:id="rId11"/>
        <p:sld r:id="rId14"/>
      </p:sldLst>
    </p:custShow>
    <p:custShow name="Copie de Le tour" id="1">
      <p:sldLst>
        <p:sld r:id="rId3"/>
        <p:sld r:id="rId11"/>
        <p:sld r:id="rId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2A6D-7CC5-4520-B306-FF33244C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C8A2-D2D5-495F-87DB-E31964E7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CBA6-0752-43E1-BBAA-2A5B654C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110D-DDEA-4C20-9674-904AAC21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B346-6FF2-4999-98A4-4520380E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9E85-33F7-4A02-BE11-249D1DB7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2F6C-0951-4BFF-B14B-AF030424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6945-2368-44B5-9518-77E5D57A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9DAA-5865-4DE3-A0EC-AFCCC3A1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E0AA-428B-4B54-837C-6C180F2A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0944-89B5-4166-8D5C-678D6F57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C8B0-B1F7-411C-B882-F5535D67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F129-4EF0-453E-94B6-99A61235C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3600" spc="-1" strike="noStrike">
                <a:solidFill>
                  <a:srgbClr val="ffffff"/>
                </a:solidFill>
                <a:latin typeface="Times New Roman"/>
              </a:rPr>
              <a:t>Tra poco, Lei entrera’ in un mondo magico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1000" y="2438280"/>
            <a:ext cx="42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66ccff"/>
                </a:solidFill>
                <a:latin typeface="Times New Roman"/>
              </a:rPr>
              <a:t>Adesso, mi guardi fisso negli occhi e si concentri sulla sua carta</a:t>
            </a:r>
            <a:r>
              <a:rPr b="0" i="1" lang="pl-PL" sz="2400" spc="-1" strike="noStrike">
                <a:solidFill>
                  <a:srgbClr val="66cc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1000" y="2438280"/>
            <a:ext cx="429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b2b2b2"/>
                </a:solidFill>
                <a:latin typeface="Times New Roman"/>
              </a:rPr>
              <a:t>Io non la conosc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b2b2b2"/>
                </a:solidFill>
                <a:latin typeface="Times New Roman"/>
              </a:rPr>
              <a:t>Non ho potuto vedere quello che ha scelt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b2b2b2"/>
                </a:solidFill>
                <a:latin typeface="Times New Roman"/>
              </a:rPr>
              <a:t>...ma so esattamente la carta che e’ nella sua ment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352680" y="5408640"/>
            <a:ext cx="3505320" cy="915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51000" y="2438280"/>
            <a:ext cx="4297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Guardi</a:t>
            </a:r>
            <a:r>
              <a:rPr b="1" i="1" lang="pl-PL" sz="4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La sua carta non c’e’ piu’</a:t>
            </a:r>
            <a:r>
              <a:rPr b="1" i="1" lang="pl-PL" sz="4800" spc="-1" strike="noStrike">
                <a:solidFill>
                  <a:srgbClr val="ffffff"/>
                </a:solidFill>
                <a:latin typeface="Times New Roman"/>
              </a:rPr>
              <a:t>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randomBa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26960" y="2787480"/>
            <a:ext cx="429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Sorpres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randomBar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1000" y="2438280"/>
            <a:ext cx="429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Ci vediamo</a:t>
            </a:r>
            <a:r>
              <a:rPr b="1" i="1" lang="pl-PL" sz="4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79440" y="25462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2360" y="1600200"/>
            <a:ext cx="397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cc0000"/>
                </a:solidFill>
                <a:latin typeface="Times New Roman"/>
              </a:rPr>
              <a:t>Le restano 7 giorni di vita dopo aver visto questo messaggio...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95280" y="2590920"/>
            <a:ext cx="297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cc0000"/>
                </a:solidFill>
                <a:latin typeface="Times New Roman"/>
              </a:rPr>
              <a:t>....oppure lo spedisca a quelli che non credono in me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Tra pochissimo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Lei sara’ testimone di qualcosa di molto speciale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Sara’ testimone...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Di una sorprendente illusione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.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il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usi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David Copperfiel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Nonostante questo sia un programma normalissimo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Lei vedra’ che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Io posso, attraverso lo schermo, leggere i suoi pensieri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14600" y="5194440"/>
            <a:ext cx="4495680" cy="977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1314360"/>
            <a:ext cx="47242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200" spc="-1" strike="noStrike">
                <a:solidFill>
                  <a:srgbClr val="ffffff"/>
                </a:solidFill>
                <a:latin typeface="Times New Roman"/>
              </a:rPr>
              <a:t>Di fronte a lei ci sono 6 carte diverse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200" spc="-1" strike="noStrike">
                <a:solidFill>
                  <a:srgbClr val="ffffff"/>
                </a:solidFill>
                <a:latin typeface="Times New Roman"/>
              </a:rPr>
              <a:t>Pensi ad una di queste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La pensi solamente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Non la tocchi ne’ faccia click su di essa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ffffff"/>
                </a:solidFill>
                <a:latin typeface="Times New Roman"/>
              </a:rPr>
              <a:t>Posso trovare quella carta nella sua m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La pensi un attimo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34280" y="5262480"/>
            <a:ext cx="455760" cy="243000"/>
          </a:xfrm>
          <a:custGeom>
            <a:avLst/>
            <a:gdLst/>
            <a:ahLst/>
            <a:rect l="l" t="t" r="r" b="b"/>
            <a:pathLst>
              <a:path w="861" h="459">
                <a:moveTo>
                  <a:pt x="39" y="30"/>
                </a:moveTo>
                <a:lnTo>
                  <a:pt x="26" y="236"/>
                </a:lnTo>
                <a:lnTo>
                  <a:pt x="14" y="446"/>
                </a:lnTo>
                <a:lnTo>
                  <a:pt x="845" y="427"/>
                </a:lnTo>
                <a:lnTo>
                  <a:pt x="813" y="268"/>
                </a:lnTo>
                <a:lnTo>
                  <a:pt x="861" y="436"/>
                </a:lnTo>
                <a:lnTo>
                  <a:pt x="0" y="459"/>
                </a:lnTo>
                <a:lnTo>
                  <a:pt x="26" y="0"/>
                </a:lnTo>
                <a:lnTo>
                  <a:pt x="39" y="30"/>
                </a:lnTo>
                <a:lnTo>
                  <a:pt x="39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1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2T14:36:11Z</dcterms:created>
  <dc:creator>DC</dc:creator>
  <dc:description/>
  <dc:language>en-US</dc:language>
  <cp:lastModifiedBy>Brusel</cp:lastModifiedBy>
  <dcterms:modified xsi:type="dcterms:W3CDTF">2003-10-01T09:22:14Z</dcterms:modified>
  <cp:revision>47</cp:revision>
  <dc:subject/>
  <dc:title>DC</dc:title>
</cp:coreProperties>
</file>