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B96-89B9-46B9-A4DE-6B1E76703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B6D3D-AE4D-4737-BB8B-3E36BFAFD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706D-A1BC-4004-806C-6AF3C0CB0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0B742-AC05-4B1D-8D25-1956F856C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20C97-AA0F-40A3-A610-F41ECBD58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E8ABE-9FAB-4671-ADA1-AD88D6BB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636D9C-2B4A-4601-9AC1-0C45A3043C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03DB5-6F01-43A1-88C6-5FEE97D72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4D7FBE-B813-4F9E-9401-3078DCBEB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ED41-DBCD-4E54-BDBB-41709093E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5AC41-3D63-48D1-831D-3356B0937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1E546-07C9-4FB8-9C76-0CAD88E46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54952-0ADD-47A0-B621-7C46EA400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B7979-CAA2-4517-9182-9CFC7E1CC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4B2A6-C75C-4432-9A81-C1769C53E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F4455-1FEE-4B9F-8045-7C6E9F231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B3930-1B0D-4178-93E7-14E8C5965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953D-6370-46FB-AC0A-9D9136443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C643-CE89-4370-91F9-D3828A742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E66-8369-4335-A47B-A2A8CEFC5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AE9B4-B2E4-474C-A3A5-CED0C565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DD30C-9126-45D8-9DB8-4E449DFE3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879-A601-4E9C-8E03-A69DC903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CAA7-89CE-4570-90E1-A2BC61816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457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914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1371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1828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2286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2743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3200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3657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4114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4572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029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5486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5943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00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68580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3152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7724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82296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8686800" y="0"/>
                <a:ext cx="0" cy="685800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grpSp>
            <p:nvGrpSpPr>
              <p:cNvPr id="21" name=""/>
              <p:cNvGrpSpPr/>
              <p:nvPr/>
            </p:nvGrpSpPr>
            <p:grpSpPr>
              <a:xfrm>
                <a:off x="0" y="533520"/>
                <a:ext cx="9144000" cy="5943600"/>
                <a:chOff x="0" y="533520"/>
                <a:chExt cx="9144000" cy="5943600"/>
              </a:xfrm>
            </p:grpSpPr>
            <p:sp>
              <p:nvSpPr>
                <p:cNvPr id="22" name=""/>
                <p:cNvSpPr/>
                <p:nvPr/>
              </p:nvSpPr>
              <p:spPr>
                <a:xfrm>
                  <a:off x="0" y="533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990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1447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1905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6" name=""/>
                <p:cNvSpPr/>
                <p:nvPr/>
              </p:nvSpPr>
              <p:spPr>
                <a:xfrm>
                  <a:off x="0" y="2362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0" y="2819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0" y="3276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0" y="3733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0" y="4191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0" y="4648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0" y="5105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0" y="5562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0" y="6019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0" y="6477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609494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 Narrow"/>
                  </a:endParaRPr>
                </a:p>
              </p:txBody>
            </p:sp>
          </p:grpSp>
        </p:grpSp>
        <p:grpSp>
          <p:nvGrpSpPr>
            <p:cNvPr id="36" name=""/>
            <p:cNvGrpSpPr/>
            <p:nvPr/>
          </p:nvGrpSpPr>
          <p:grpSpPr>
            <a:xfrm>
              <a:off x="609480" y="6248160"/>
              <a:ext cx="7925040" cy="609480"/>
              <a:chOff x="609480" y="6248160"/>
              <a:chExt cx="7925040" cy="609480"/>
            </a:xfrm>
          </p:grpSpPr>
          <p:sp>
            <p:nvSpPr>
              <p:cNvPr id="37" name=""/>
              <p:cNvSpPr/>
              <p:nvPr/>
            </p:nvSpPr>
            <p:spPr>
              <a:xfrm flipV="1" rot="16200000">
                <a:off x="7248600" y="5549040"/>
                <a:ext cx="587160" cy="198432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 flipV="1" rot="16200000">
                <a:off x="7507080" y="5841000"/>
                <a:ext cx="50760" cy="198144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 flipV="1" rot="16200000">
                <a:off x="1315800" y="5549040"/>
                <a:ext cx="587160" cy="19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 flipV="1" rot="16200000">
                <a:off x="1574640" y="5841000"/>
                <a:ext cx="50760" cy="1981440"/>
              </a:xfrm>
              <a:prstGeom prst="rect">
                <a:avLst/>
              </a:prstGeom>
              <a:blipFill rotWithShape="0">
                <a:blip r:embed="rId3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 flipV="1" rot="16200000">
                <a:off x="4283640" y="5099040"/>
                <a:ext cx="587160" cy="2884680"/>
              </a:xfrm>
              <a:custGeom>
                <a:avLst/>
                <a:gdLst/>
                <a:ahLst/>
                <a:rect l="l" t="t" r="r" b="b"/>
                <a:pathLst>
                  <a:path w="290" h="1250">
                    <a:moveTo>
                      <a:pt x="0" y="2"/>
                    </a:moveTo>
                    <a:cubicBezTo>
                      <a:pt x="0" y="2"/>
                      <a:pt x="120" y="2"/>
                      <a:pt x="240" y="2"/>
                    </a:cubicBezTo>
                    <a:cubicBezTo>
                      <a:pt x="262" y="0"/>
                      <a:pt x="290" y="12"/>
                      <a:pt x="288" y="50"/>
                    </a:cubicBezTo>
                    <a:cubicBezTo>
                      <a:pt x="288" y="626"/>
                      <a:pt x="288" y="1202"/>
                      <a:pt x="288" y="1202"/>
                    </a:cubicBezTo>
                    <a:cubicBezTo>
                      <a:pt x="288" y="1232"/>
                      <a:pt x="274" y="1250"/>
                      <a:pt x="240" y="1250"/>
                    </a:cubicBezTo>
                    <a:cubicBezTo>
                      <a:pt x="120" y="1250"/>
                      <a:pt x="0" y="1250"/>
                      <a:pt x="0" y="1250"/>
                    </a:cubicBez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476f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 flipV="1" rot="16200000">
                <a:off x="4538520" y="5391720"/>
                <a:ext cx="50760" cy="2880000"/>
              </a:xfrm>
              <a:prstGeom prst="rect">
                <a:avLst/>
              </a:prstGeom>
              <a:blipFill rotWithShape="0">
                <a:blip r:embed="rId4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grpSp>
        <p:nvGrpSpPr>
          <p:cNvPr id="43" name=""/>
          <p:cNvGrpSpPr/>
          <p:nvPr/>
        </p:nvGrpSpPr>
        <p:grpSpPr>
          <a:xfrm>
            <a:off x="0" y="0"/>
            <a:ext cx="9144000" cy="236520"/>
            <a:chOff x="0" y="0"/>
            <a:chExt cx="9144000" cy="236520"/>
          </a:xfrm>
        </p:grpSpPr>
        <p:pic>
          <p:nvPicPr>
            <p:cNvPr id="44" name="techstri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9144000" cy="15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" name=""/>
            <p:cNvSpPr/>
            <p:nvPr/>
          </p:nvSpPr>
          <p:spPr>
            <a:xfrm>
              <a:off x="0" y="146160"/>
              <a:ext cx="9144000" cy="4752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0" y="189000"/>
              <a:ext cx="9144000" cy="47520"/>
            </a:xfrm>
            <a:prstGeom prst="rect">
              <a:avLst/>
            </a:prstGeom>
            <a:solidFill>
              <a:srgbClr val="476f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9320" indent="-229320">
              <a:spcBef>
                <a:spcPts val="799"/>
              </a:spcBef>
              <a:buClr>
                <a:srgbClr val="ffc545"/>
              </a:buClr>
              <a:buSzPct val="75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1" marL="623880" indent="-17136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2" marL="1069920" indent="-164880">
              <a:spcBef>
                <a:spcPts val="799"/>
              </a:spcBef>
              <a:buClr>
                <a:srgbClr val="99cccc"/>
              </a:buClr>
              <a:buSzPct val="7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&gt;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 Narrow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1"/>
          </p:nvPr>
        </p:nvSpPr>
        <p:spPr>
          <a:xfrm>
            <a:off x="68580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2"/>
          </p:nvPr>
        </p:nvSpPr>
        <p:spPr>
          <a:xfrm>
            <a:off x="3124080" y="6283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3"/>
          </p:nvPr>
        </p:nvSpPr>
        <p:spPr>
          <a:xfrm>
            <a:off x="6553080" y="6283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99cccc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4B63D-D194-4BCC-AB28-1A62D7D5649E}" type="slidenum">
              <a:rPr b="0" lang="de-DE" sz="1400" spc="-1" strike="noStrike">
                <a:solidFill>
                  <a:srgbClr val="99ccc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89" name=""/>
            <p:cNvSpPr/>
            <p:nvPr/>
          </p:nvSpPr>
          <p:spPr>
            <a:xfrm flipV="1">
              <a:off x="457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0" name=""/>
            <p:cNvSpPr/>
            <p:nvPr/>
          </p:nvSpPr>
          <p:spPr>
            <a:xfrm flipV="1">
              <a:off x="914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1" name=""/>
            <p:cNvSpPr/>
            <p:nvPr/>
          </p:nvSpPr>
          <p:spPr>
            <a:xfrm flipV="1">
              <a:off x="1371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2" name=""/>
            <p:cNvSpPr/>
            <p:nvPr/>
          </p:nvSpPr>
          <p:spPr>
            <a:xfrm flipV="1">
              <a:off x="1828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2286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4" name=""/>
            <p:cNvSpPr/>
            <p:nvPr/>
          </p:nvSpPr>
          <p:spPr>
            <a:xfrm flipV="1">
              <a:off x="2743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3200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3657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7" name=""/>
            <p:cNvSpPr/>
            <p:nvPr/>
          </p:nvSpPr>
          <p:spPr>
            <a:xfrm flipV="1">
              <a:off x="4114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 flipV="1">
              <a:off x="4572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5029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0" name=""/>
            <p:cNvSpPr/>
            <p:nvPr/>
          </p:nvSpPr>
          <p:spPr>
            <a:xfrm flipV="1">
              <a:off x="5486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5943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6400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3" name=""/>
            <p:cNvSpPr/>
            <p:nvPr/>
          </p:nvSpPr>
          <p:spPr>
            <a:xfrm flipV="1">
              <a:off x="68580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4" name=""/>
            <p:cNvSpPr/>
            <p:nvPr/>
          </p:nvSpPr>
          <p:spPr>
            <a:xfrm flipV="1">
              <a:off x="73152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5" name=""/>
            <p:cNvSpPr/>
            <p:nvPr/>
          </p:nvSpPr>
          <p:spPr>
            <a:xfrm flipV="1">
              <a:off x="77724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6" name=""/>
            <p:cNvSpPr/>
            <p:nvPr/>
          </p:nvSpPr>
          <p:spPr>
            <a:xfrm flipV="1">
              <a:off x="82296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8686800" y="0"/>
              <a:ext cx="0" cy="6858000"/>
            </a:xfrm>
            <a:prstGeom prst="line">
              <a:avLst/>
            </a:prstGeom>
            <a:ln w="9360">
              <a:solidFill>
                <a:srgbClr val="60949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 Narrow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0" y="380880"/>
              <a:ext cx="9144000" cy="5943600"/>
              <a:chOff x="0" y="380880"/>
              <a:chExt cx="9144000" cy="5943600"/>
            </a:xfrm>
          </p:grpSpPr>
          <p:sp>
            <p:nvSpPr>
              <p:cNvPr id="109" name=""/>
              <p:cNvSpPr/>
              <p:nvPr/>
            </p:nvSpPr>
            <p:spPr>
              <a:xfrm>
                <a:off x="0" y="6324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5867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5410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4952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4495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038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3581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3124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2666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22096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17524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12952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8380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380880"/>
                <a:ext cx="9144000" cy="0"/>
              </a:xfrm>
              <a:prstGeom prst="line">
                <a:avLst/>
              </a:prstGeom>
              <a:ln w="9360">
                <a:solidFill>
                  <a:srgbClr val="609494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 Narrow"/>
                </a:endParaRPr>
              </a:p>
            </p:txBody>
          </p:sp>
        </p:grpSp>
      </p:grpSp>
      <p:sp>
        <p:nvSpPr>
          <p:cNvPr id="123" name=""/>
          <p:cNvSpPr/>
          <p:nvPr/>
        </p:nvSpPr>
        <p:spPr>
          <a:xfrm>
            <a:off x="0" y="1676520"/>
            <a:ext cx="9144000" cy="152280"/>
          </a:xfrm>
          <a:prstGeom prst="rect">
            <a:avLst/>
          </a:pr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4" name=""/>
          <p:cNvSpPr/>
          <p:nvPr/>
        </p:nvSpPr>
        <p:spPr>
          <a:xfrm rot="5400000">
            <a:off x="3787920" y="-1245240"/>
            <a:ext cx="1595520" cy="7591320"/>
          </a:xfrm>
          <a:custGeom>
            <a:avLst/>
            <a:gdLst/>
            <a:ahLst/>
            <a:rect l="l" t="t" r="r" b="b"/>
            <a:pathLst>
              <a:path w="290" h="1250">
                <a:moveTo>
                  <a:pt x="0" y="2"/>
                </a:moveTo>
                <a:cubicBezTo>
                  <a:pt x="0" y="2"/>
                  <a:pt x="120" y="2"/>
                  <a:pt x="240" y="2"/>
                </a:cubicBezTo>
                <a:cubicBezTo>
                  <a:pt x="262" y="0"/>
                  <a:pt x="290" y="12"/>
                  <a:pt x="288" y="50"/>
                </a:cubicBezTo>
                <a:cubicBezTo>
                  <a:pt x="288" y="626"/>
                  <a:pt x="288" y="1202"/>
                  <a:pt x="288" y="1202"/>
                </a:cubicBezTo>
                <a:cubicBezTo>
                  <a:pt x="288" y="1232"/>
                  <a:pt x="274" y="1250"/>
                  <a:pt x="240" y="1250"/>
                </a:cubicBezTo>
                <a:cubicBezTo>
                  <a:pt x="120" y="1250"/>
                  <a:pt x="0" y="1250"/>
                  <a:pt x="0" y="1250"/>
                </a:cubicBezTo>
                <a:lnTo>
                  <a:pt x="0" y="2"/>
                </a:lnTo>
                <a:close/>
              </a:path>
            </a:pathLst>
          </a:custGeom>
          <a:solidFill>
            <a:srgbClr val="476f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125" name="techstrip" descr=""/>
          <p:cNvPicPr/>
          <p:nvPr/>
        </p:nvPicPr>
        <p:blipFill>
          <a:blip r:embed="rId2"/>
          <a:stretch/>
        </p:blipFill>
        <p:spPr>
          <a:xfrm>
            <a:off x="0" y="1600200"/>
            <a:ext cx="9144000" cy="15228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-3240" y="1752480"/>
            <a:ext cx="9147240" cy="74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545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ffc545"/>
              </a:solidFill>
              <a:latin typeface="Impact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A9D75-51B0-4390-AEB2-D10C719D81BF}" type="slidenum">
              <a:rPr b="0" lang="de-DE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1143000" y="914400"/>
            <a:ext cx="7162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4000" spc="-1" strike="noStrike">
                <a:solidFill>
                  <a:srgbClr val="ff6600"/>
                </a:solidFill>
                <a:latin typeface="ISOCTEUR"/>
              </a:rPr>
              <a:t>     </a:t>
            </a:r>
            <a:r>
              <a:rPr b="1" lang="de-DE" sz="4000" spc="-1" strike="noStrike">
                <a:solidFill>
                  <a:srgbClr val="000000"/>
                </a:solidFill>
                <a:latin typeface="ISOCTEUR"/>
              </a:rPr>
              <a:t>Vincitori del Concorso</a:t>
            </a:r>
            <a:endParaRPr b="0" lang="en-US" sz="4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8" name=""/>
          <p:cNvSpPr/>
          <p:nvPr/>
        </p:nvSpPr>
        <p:spPr>
          <a:xfrm>
            <a:off x="228600" y="2895480"/>
            <a:ext cx="8610480" cy="17398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476f6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SICUREZZA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 </a:t>
            </a:r>
            <a:r>
              <a:rPr b="1" lang="de-DE" sz="5400" spc="-1" strike="noStrike">
                <a:solidFill>
                  <a:srgbClr val="ff6600"/>
                </a:solidFill>
                <a:latin typeface="ISOCTEUR"/>
              </a:rPr>
              <a:t>SUL LAVORO</a:t>
            </a:r>
            <a:endParaRPr b="0" lang="en-US" sz="5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9" name=""/>
          <p:cNvSpPr/>
          <p:nvPr/>
        </p:nvSpPr>
        <p:spPr>
          <a:xfrm>
            <a:off x="2286000" y="2043000"/>
            <a:ext cx="457200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9" name=""/>
          <p:cNvSpPr/>
          <p:nvPr/>
        </p:nvSpPr>
        <p:spPr>
          <a:xfrm>
            <a:off x="533520" y="2057400"/>
            <a:ext cx="8610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E il </a:t>
            </a: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VINCITORE </a:t>
            </a: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è 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228600" y="304920"/>
            <a:ext cx="8782200" cy="5784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2" name=""/>
          <p:cNvSpPr/>
          <p:nvPr/>
        </p:nvSpPr>
        <p:spPr>
          <a:xfrm>
            <a:off x="533520" y="213372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MENZIONE SPECIALE Premio della Giuria </a:t>
            </a:r>
            <a:r>
              <a:rPr b="1" lang="de-DE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Astuce%20de%20taille" descr=""/>
          <p:cNvPicPr/>
          <p:nvPr/>
        </p:nvPicPr>
        <p:blipFill>
          <a:blip r:embed="rId1"/>
          <a:stretch/>
        </p:blipFill>
        <p:spPr>
          <a:xfrm>
            <a:off x="1150920" y="865080"/>
            <a:ext cx="6840720" cy="512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2117880" y="1886040"/>
            <a:ext cx="1839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5" name=""/>
          <p:cNvSpPr/>
          <p:nvPr/>
        </p:nvSpPr>
        <p:spPr>
          <a:xfrm>
            <a:off x="533520" y="2057400"/>
            <a:ext cx="86104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FUORI CONCORSO</a:t>
            </a:r>
            <a:br>
              <a:rPr sz="6000"/>
            </a:br>
            <a:r>
              <a:rPr b="1" lang="de-DE" sz="6000" spc="-1" strike="noStrike">
                <a:solidFill>
                  <a:srgbClr val="ff6600"/>
                </a:solidFill>
                <a:latin typeface="ISOCTEUR"/>
              </a:rPr>
              <a:t>Laurea ad honorem </a:t>
            </a:r>
            <a:r>
              <a:rPr b="1" lang="de-DE" sz="6000" spc="-1" strike="noStrike">
                <a:solidFill>
                  <a:srgbClr val="000000"/>
                </a:solidFill>
                <a:latin typeface="ISOCTEUR"/>
              </a:rPr>
              <a:t>...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" descr=""/>
          <p:cNvPicPr/>
          <p:nvPr/>
        </p:nvPicPr>
        <p:blipFill>
          <a:blip r:embed="rId1"/>
          <a:srcRect l="0" t="0" r="0" b="6136"/>
          <a:stretch/>
        </p:blipFill>
        <p:spPr>
          <a:xfrm>
            <a:off x="2654280" y="996840"/>
            <a:ext cx="3835440" cy="4565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838080" y="2666880"/>
            <a:ext cx="7620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quint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rcRect l="0" t="8620" r="0" b="0"/>
          <a:stretch/>
        </p:blipFill>
        <p:spPr>
          <a:xfrm>
            <a:off x="209520" y="609480"/>
            <a:ext cx="8724960" cy="5384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838080" y="2590920"/>
            <a:ext cx="7651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quart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SafetyOfficer07%5B1%5D" descr=""/>
          <p:cNvPicPr/>
          <p:nvPr/>
        </p:nvPicPr>
        <p:blipFill>
          <a:blip r:embed="rId1"/>
          <a:stretch/>
        </p:blipFill>
        <p:spPr>
          <a:xfrm>
            <a:off x="2166840" y="276120"/>
            <a:ext cx="4497480" cy="5896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838080" y="2743200"/>
            <a:ext cx="749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terz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SafetyOfficer05%5B1%5D" descr=""/>
          <p:cNvPicPr/>
          <p:nvPr/>
        </p:nvPicPr>
        <p:blipFill>
          <a:blip r:embed="rId1"/>
          <a:stretch/>
        </p:blipFill>
        <p:spPr>
          <a:xfrm>
            <a:off x="2506680" y="380880"/>
            <a:ext cx="3873600" cy="571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-199800" y="2590920"/>
            <a:ext cx="7495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6000" spc="-1" strike="noStrike">
                <a:solidFill>
                  <a:srgbClr val="000000"/>
                </a:solidFill>
                <a:latin typeface="ISOCTEUR"/>
              </a:rPr>
              <a:t>Al secondo posto</a:t>
            </a:r>
            <a:endParaRPr b="0" lang="en-US" sz="6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0949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2666880" y="304920"/>
            <a:ext cx="3829320" cy="57816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7T13:49:11Z</dcterms:created>
  <dc:creator>-</dc:creator>
  <dc:description/>
  <dc:language>en-US</dc:language>
  <cp:lastModifiedBy>Danilo</cp:lastModifiedBy>
  <cp:lastPrinted>2009-04-22T19:24:48Z</cp:lastPrinted>
  <dcterms:modified xsi:type="dcterms:W3CDTF">2005-01-28T11:42:05Z</dcterms:modified>
  <cp:revision>23</cp:revision>
  <dc:subject/>
  <dc:title>PowerPoint-Präsentation</dc:title>
</cp:coreProperties>
</file>