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5171-9331-44F8-84E3-F6BAFF74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C778-AA2E-4EF2-B7D2-7F3CEED7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11F-800C-4232-AD28-2BEA2759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7EE6-38F1-49A0-B293-6CE4D166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75E-2F85-46E7-9833-44436508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A31-56C0-4679-A79F-BB684597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46D-26F1-466B-9EA2-E9915114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942-7758-44A6-9131-325D2BA5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0C94-6DED-4AC8-A483-9F14D11F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E13-AE6F-4CFA-86EA-54165F42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F17F-DBF8-4F33-8C98-1F3E4AD6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2CB-7BDB-419C-9C15-95695B0C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3F0C-6D88-4E54-8140-58D1FE702E5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ata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9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lloquio di lavoro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51460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Una brunetta, una rossa e una biondi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Si presentano per un colloquio di lavor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685800"/>
            <a:ext cx="7635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iene interpellata per prima la brunet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opo alcune abituali domande il capo del personale chie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lle parole INDIANA JONES, quante  “T” troviam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i ci pensa alcuni secondi e poi risponde: ”nessuna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4267080"/>
            <a:ext cx="717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olto bene grazie, sarà contattata”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914400"/>
            <a:ext cx="7635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Entra la rossa, per seconda. Dopo le solite innumerevoli domande, il capo del personale le chiede: “Nelle parole INDIANA JONES, quante “T” ci sono?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nche lei si prende qualche secondo per pensarci e poi risponde : “nessuna!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495680"/>
            <a:ext cx="6035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olto bene grazie, sarà contattata”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609480"/>
            <a:ext cx="80931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er ultima entra la biondina. Anche a lei vengono fatte le solite domande, poi il capo del personale le chiede: Nelle parole “INDIANA JONES” quante  “T” ci sono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Lei si prende alcuni secondi per pensarci, poi risponde sottovoce:2-4-6-8-10-12, prende una calcolatrice tascabile, incomincia a calcolare la radice quadrata e alla fine con voce squillante risponde: “32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495680"/>
            <a:ext cx="809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h bene! Perfetto! Ma mi potrebbe spiegare come ha fatto a calcolare questo numero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1972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8636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/>
          </p:cNvPr>
          <p:cNvSpPr/>
          <p:nvPr/>
        </p:nvSpPr>
        <p:spPr>
          <a:xfrm>
            <a:off x="3886200" y="2971800"/>
            <a:ext cx="1676520" cy="380880"/>
          </a:xfrm>
          <a:custGeom>
            <a:avLst/>
            <a:gdLst>
              <a:gd name="textAreaLeft" fmla="*/ 24480 w 1676520"/>
              <a:gd name="textAreaRight" fmla="*/ 1652040 w 1676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3607" y="1400"/>
                </a:lnTo>
                <a:lnTo>
                  <a:pt x="1400" y="1400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3607" y="20200"/>
                </a:lnTo>
                <a:lnTo>
                  <a:pt x="93607" y="1400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607" y="20200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5007" h="21600">
                <a:moveTo>
                  <a:pt x="40497" y="8406"/>
                </a:moveTo>
                <a:lnTo>
                  <a:pt x="44927" y="8406"/>
                </a:lnTo>
                <a:lnTo>
                  <a:pt x="49349" y="3794"/>
                </a:lnTo>
                <a:lnTo>
                  <a:pt x="49349" y="17806"/>
                </a:lnTo>
                <a:lnTo>
                  <a:pt x="44927" y="13194"/>
                </a:lnTo>
                <a:lnTo>
                  <a:pt x="40497" y="13194"/>
                </a:lnTo>
                <a:close/>
              </a:path>
              <a:path fill="darken" w="95007" h="21600">
                <a:moveTo>
                  <a:pt x="51003" y="10800"/>
                </a:moveTo>
                <a:lnTo>
                  <a:pt x="54510" y="10800"/>
                </a:lnTo>
              </a:path>
              <a:path fill="darken" w="95007" h="21600">
                <a:moveTo>
                  <a:pt x="51003" y="8406"/>
                </a:moveTo>
                <a:lnTo>
                  <a:pt x="54510" y="5639"/>
                </a:lnTo>
              </a:path>
              <a:path fill="darken" w="95007" h="21600">
                <a:moveTo>
                  <a:pt x="51003" y="13194"/>
                </a:moveTo>
                <a:lnTo>
                  <a:pt x="54510" y="15961"/>
                </a:lnTo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18288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  <a:ea typeface="Arial"/>
              </a:rPr>
              <a:t>Cliccare qui per la sol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1T14:17:39Z</dcterms:created>
  <dc:creator>Bimmel &amp; Bommel</dc:creator>
  <dc:description/>
  <dc:language>en-US</dc:language>
  <cp:lastModifiedBy>Gianluca Pollesel</cp:lastModifiedBy>
  <dcterms:modified xsi:type="dcterms:W3CDTF">2003-02-13T14:23:19Z</dcterms:modified>
  <cp:revision>2</cp:revision>
  <dc:subject/>
  <dc:title>PowerPoint-Präsentation</dc:title>
</cp:coreProperties>
</file>